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E32-0A2C-47EC-93D3-1297ECE1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A45-7353-42AE-932E-4C860DE5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6EA-1687-4965-A305-B256E506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C86-1034-4B75-84A6-B2F1C1E6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B05-3CBA-4B2D-8828-B378EEB6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40E-D91F-4FAE-8A45-FF7903D3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982-E996-4F70-BED8-68F45B34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50A-63E5-4658-A53D-5415F011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BF6-A21E-447B-A541-DD17E3D6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C02-C4A8-40B0-8B45-9BAC2B57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775-6BFB-4F1F-9E6A-E04F584C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0CA-3AB5-4B60-9129-5E03CA97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5DD8-9032-4973-A091-A939E9BFE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changes relative to temperature and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ke McDermott, Alex Pak , and Iain Trac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li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when a substance’s vapor pressure is greater then one atm and its environment is at room tem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ubstance undergoing sublimation goes directly from a solid state to a gaseous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kentchemistry.com/images/links/matter/Phasewater.gif"/>
          <p:cNvPicPr/>
          <p:nvPr/>
        </p:nvPicPr>
        <p:blipFill>
          <a:blip r:embed="rId1"/>
          <a:stretch/>
        </p:blipFill>
        <p:spPr>
          <a:xfrm>
            <a:off x="838080" y="1371600"/>
            <a:ext cx="72392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ple Point and Critical 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riple Point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point where all phases of a compound exist in equilib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ritical Point 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point where the combination of temperature and pressure prohibits a liquid st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s on a Triple Point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nes represent phase boundaries i.e. the boundaries between sta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3:52:14Z</dcterms:created>
  <dc:creator>14itracton</dc:creator>
  <dc:description/>
  <dc:language>en-US</dc:language>
  <cp:lastModifiedBy>14itracton</cp:lastModifiedBy>
  <dcterms:modified xsi:type="dcterms:W3CDTF">2012-04-26T14:02:58Z</dcterms:modified>
  <cp:revision>6</cp:revision>
  <dc:subject/>
  <dc:title>Phase changes relative to temperature and pressure</dc:title>
</cp:coreProperties>
</file>